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097-FBDA-4BEF-BEA1-395C20A2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C13-FAE7-4D7E-B52C-FE05E465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F1B-26D8-4F9B-96F6-0EF35798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554-F4DF-46C6-9F28-21D17C65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794-A991-47F1-9E74-6EFC2E24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786-A5D7-436E-B9D9-528942CD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DDC-7D9F-4A61-A77B-1B851E8A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E01-0F43-4985-BE78-9761FE67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992-8594-47EB-A07F-062EF2DA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D1E-C2BB-46A5-AA32-213D230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1DB-0917-485E-96CA-269E1D5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911-D4E6-4A12-B6C2-BF00648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EAE2-1B2A-4EE3-968C-B0D24F4BA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6200"/>
            </a:b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Do you wonder about some things?  Do you know why your eyes sometimes water on a warm day?  When we are searching for answers, whom can we ask?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2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day we will read a fantasy about an ant with a question.  Whom does the ant check with to find the answer?  What does he find out?  Why is the ant shocke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68680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8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inosaur eggs hatched!  Did that really happen?  Or did Ollie just think that it did?  Listen again.  See what you think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4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me animals eat the strangest things!  Today we will read about the anteater.  Anteaters search for food in an unusual way.  How do you think anteaters searc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6868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3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 week we read about asking questions.  What did we find out about whom we can ask when we are looking for answers?  Where can we inquir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 </cp:lastModifiedBy>
  <dcterms:modified xsi:type="dcterms:W3CDTF">2007-05-04T16:03:03Z</dcterms:modified>
  <cp:revision>37</cp:revision>
  <dc:subject/>
  <dc:title> Morning Warm- Up! The cat needs some water.  The dog wants a bone.  That bird lives in a birdhouse where she feels quite at home.  How do people take care of pets?</dc:title>
</cp:coreProperties>
</file>